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4081-C9AD-4FEB-B597-6A2D67CF85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: to describe different model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d to investigate factors which control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an enzyme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th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oC - den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 40o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5oC - 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eat the protein  above its optimal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heat on enzyme activ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ing the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emperature lowered – enzyme can’t regain its correct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 Ionic bonds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charged residues at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 and 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+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+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= Amount of substrate changed (or amount product for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4F61-3C23-4C71-9B8F-993B992B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377-468D-4D9C-99B0-7791855D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1A7-3681-48C1-B732-8C534455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985-9BC9-4058-B2F5-F22B088F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2F0-FF51-4185-BA93-A3E10ADF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BD8D-AC3B-402A-8F07-C971CD05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09A-45D0-4F4F-8FB2-F4F96D66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DE1-E9A6-4CD7-958E-88733F58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4C1B-5F6F-4C2B-99EB-6B8FDD66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1CF-21C9-46B9-9C71-33316B5D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0EF-7F10-4BA3-B315-BAA06142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C10-ADFD-4B8E-8C69-944CF6A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465-57E8-4931-B810-A6761D0293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08760" y="836640"/>
            <a:ext cx="427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248760" y="1978200"/>
            <a:ext cx="855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objectiv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o describe different model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zyme action and to investigate factors which control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te of an enzyme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90800" y="33804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4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281400" y="5013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riable you are looking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98872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99640" y="2395440"/>
            <a:ext cx="18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 flipV="1">
            <a:off x="2771640" y="1844640"/>
            <a:ext cx="79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 flipV="1">
            <a:off x="2771640" y="242064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2771640" y="278136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700360" y="306864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998520" y="15746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997800" y="2131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7800" y="270828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3997800" y="342756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3208320" y="42228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Temp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675160" y="486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87072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3276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8568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20904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19480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518880" y="486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3"/>
          <p:cNvSpPr/>
          <p:nvPr/>
        </p:nvSpPr>
        <p:spPr>
          <a:xfrm>
            <a:off x="2844720" y="1700280"/>
            <a:ext cx="3672000" cy="3024000"/>
          </a:xfrm>
          <a:custGeom>
            <a:avLst/>
            <a:gdLst/>
            <a:ahLst/>
            <a:rect l="l" t="t" r="r" b="b"/>
            <a:pathLst>
              <a:path w="2313" h="1905">
                <a:moveTo>
                  <a:pt x="0" y="1905"/>
                </a:moveTo>
                <a:cubicBezTo>
                  <a:pt x="488" y="952"/>
                  <a:pt x="976" y="0"/>
                  <a:pt x="1361" y="0"/>
                </a:cubicBezTo>
                <a:cubicBezTo>
                  <a:pt x="1746" y="0"/>
                  <a:pt x="2154" y="1588"/>
                  <a:pt x="2313" y="1905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4"/>
          <p:cNvSpPr/>
          <p:nvPr/>
        </p:nvSpPr>
        <p:spPr>
          <a:xfrm flipV="1">
            <a:off x="5292720" y="1628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6217200" y="1432080"/>
            <a:ext cx="18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den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6"/>
          <p:cNvSpPr/>
          <p:nvPr/>
        </p:nvSpPr>
        <p:spPr>
          <a:xfrm flipH="1" flipV="1">
            <a:off x="2195280" y="1412640"/>
            <a:ext cx="18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42160" y="692280"/>
            <a:ext cx="20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- 4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1476360" y="4365360"/>
            <a:ext cx="15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331560" y="5445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- in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2160" y="1052640"/>
            <a:ext cx="82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heat the protein  above its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ptimal tempera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nds bre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ing the protein loses it secondary and tertiar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ribozyme"/>
          <p:cNvPicPr/>
          <p:nvPr/>
        </p:nvPicPr>
        <p:blipFill>
          <a:blip r:embed="rId1"/>
          <a:stretch/>
        </p:blipFill>
        <p:spPr>
          <a:xfrm>
            <a:off x="684360" y="2787480"/>
            <a:ext cx="3097080" cy="2225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olypeptide"/>
          <p:cNvPicPr/>
          <p:nvPr/>
        </p:nvPicPr>
        <p:blipFill>
          <a:blip r:embed="rId2"/>
          <a:stretch/>
        </p:blipFill>
        <p:spPr>
          <a:xfrm>
            <a:off x="5940360" y="307512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48" name="Line 6"/>
          <p:cNvSpPr/>
          <p:nvPr/>
        </p:nvSpPr>
        <p:spPr>
          <a:xfrm>
            <a:off x="3995640" y="394020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462400" y="393372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225440" y="266760"/>
            <a:ext cx="66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ffect of heat on enzyme activ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ribozyme"/>
          <p:cNvPicPr/>
          <p:nvPr/>
        </p:nvPicPr>
        <p:blipFill>
          <a:blip r:embed="rId1"/>
          <a:stretch/>
        </p:blipFill>
        <p:spPr>
          <a:xfrm>
            <a:off x="684360" y="1413000"/>
            <a:ext cx="3097080" cy="2225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polypeptide"/>
          <p:cNvPicPr/>
          <p:nvPr/>
        </p:nvPicPr>
        <p:blipFill>
          <a:blip r:embed="rId2"/>
          <a:stretch/>
        </p:blipFill>
        <p:spPr>
          <a:xfrm>
            <a:off x="5940360" y="1700280"/>
            <a:ext cx="2089080" cy="1766880"/>
          </a:xfrm>
          <a:prstGeom prst="rect">
            <a:avLst/>
          </a:prstGeom>
          <a:ln w="0">
            <a:noFill/>
          </a:ln>
        </p:spPr>
      </p:pic>
      <p:sp>
        <p:nvSpPr>
          <p:cNvPr id="157" name="Line 5"/>
          <p:cNvSpPr/>
          <p:nvPr/>
        </p:nvSpPr>
        <p:spPr>
          <a:xfrm>
            <a:off x="3995640" y="2565360"/>
            <a:ext cx="1584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2473560" y="3429000"/>
            <a:ext cx="41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naturing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00280" y="4221000"/>
            <a:ext cx="39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CHANGES SHAP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 SUBSTRATE NO LONGER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403200" y="5156280"/>
            <a:ext cx="83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n if temperature lowered –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nzyme can’t regain its correct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ock_key1"/>
          <p:cNvPicPr/>
          <p:nvPr/>
        </p:nvPicPr>
        <p:blipFill>
          <a:blip r:embed="rId1"/>
          <a:stretch/>
        </p:blipFill>
        <p:spPr>
          <a:xfrm>
            <a:off x="1243080" y="1881360"/>
            <a:ext cx="6657840" cy="309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6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0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9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4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585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630108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305928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"/>
          <p:cNvSpPr/>
          <p:nvPr/>
        </p:nvSpPr>
        <p:spPr>
          <a:xfrm>
            <a:off x="478800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7"/>
          <p:cNvSpPr/>
          <p:nvPr/>
        </p:nvSpPr>
        <p:spPr>
          <a:xfrm flipV="1">
            <a:off x="5292720" y="191592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592344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6426360" y="257796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2"/>
          <p:cNvSpPr/>
          <p:nvPr/>
        </p:nvSpPr>
        <p:spPr>
          <a:xfrm>
            <a:off x="971640" y="4724280"/>
            <a:ext cx="36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"/>
          <p:cNvSpPr/>
          <p:nvPr/>
        </p:nvSpPr>
        <p:spPr>
          <a:xfrm flipV="1">
            <a:off x="9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 rot="16200000">
            <a:off x="-43164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218480" y="4222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36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0072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2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34964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7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50000" y="4933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36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05000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4500720" y="493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125892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6"/>
          <p:cNvSpPr/>
          <p:nvPr/>
        </p:nvSpPr>
        <p:spPr>
          <a:xfrm>
            <a:off x="2987640" y="1989000"/>
            <a:ext cx="720720" cy="2735280"/>
          </a:xfrm>
          <a:custGeom>
            <a:avLst/>
            <a:gdLst/>
            <a:ahLst/>
            <a:rect l="l" t="t" r="r" b="b"/>
            <a:pathLst>
              <a:path w="454" h="1723">
                <a:moveTo>
                  <a:pt x="0" y="1723"/>
                </a:moveTo>
                <a:cubicBezTo>
                  <a:pt x="53" y="861"/>
                  <a:pt x="106" y="0"/>
                  <a:pt x="182" y="0"/>
                </a:cubicBezTo>
                <a:cubicBezTo>
                  <a:pt x="258" y="0"/>
                  <a:pt x="356" y="861"/>
                  <a:pt x="454" y="1723"/>
                </a:cubicBez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7"/>
          <p:cNvSpPr/>
          <p:nvPr/>
        </p:nvSpPr>
        <p:spPr>
          <a:xfrm flipV="1">
            <a:off x="3492360" y="1915920"/>
            <a:ext cx="43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8"/>
          <p:cNvSpPr/>
          <p:nvPr/>
        </p:nvSpPr>
        <p:spPr>
          <a:xfrm>
            <a:off x="4123080" y="164772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pH op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4213440" y="249228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srupt Ionic bonds -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4286520" y="3116160"/>
            <a:ext cx="46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ffect charged residues at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840320" y="422280"/>
            <a:ext cx="56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Enzym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495960" y="50133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zym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7"/>
          <p:cNvSpPr/>
          <p:nvPr/>
        </p:nvSpPr>
        <p:spPr>
          <a:xfrm flipV="1">
            <a:off x="2771640" y="2276280"/>
            <a:ext cx="3168720" cy="24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2"/>
          <p:cNvSpPr/>
          <p:nvPr/>
        </p:nvSpPr>
        <p:spPr>
          <a:xfrm>
            <a:off x="2771640" y="4724280"/>
            <a:ext cx="360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"/>
          <p:cNvSpPr/>
          <p:nvPr/>
        </p:nvSpPr>
        <p:spPr>
          <a:xfrm flipV="1">
            <a:off x="2771640" y="1844280"/>
            <a:ext cx="0" cy="28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 rot="16200000">
            <a:off x="1368000" y="3107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53760" y="476280"/>
            <a:ext cx="609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Substrate Concent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3495960" y="5013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2771640" y="2781000"/>
            <a:ext cx="1152720" cy="19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"/>
          <p:cNvSpPr/>
          <p:nvPr/>
        </p:nvSpPr>
        <p:spPr>
          <a:xfrm>
            <a:off x="3924360" y="278136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V="1">
            <a:off x="3924360" y="206028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4287960" y="1700280"/>
            <a:ext cx="37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s full- maximum turn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654640" y="260280"/>
            <a:ext cx="384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Lock and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69240" y="1647720"/>
            <a:ext cx="77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certain substances can bind to the enzyme at sites other tha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e site and modify its activity (inhibitors/co-fa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a that the enzyme is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proper3"/>
          <p:cNvPicPr/>
          <p:nvPr/>
        </p:nvPicPr>
        <p:blipFill>
          <a:blip r:embed="rId1"/>
          <a:stretch/>
        </p:blipFill>
        <p:spPr>
          <a:xfrm>
            <a:off x="1116000" y="1341360"/>
            <a:ext cx="6913440" cy="4454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828520" y="260280"/>
            <a:ext cx="33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Induced F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lock_key1"/>
          <p:cNvPicPr/>
          <p:nvPr/>
        </p:nvPicPr>
        <p:blipFill>
          <a:blip r:embed="rId1"/>
          <a:stretch/>
        </p:blipFill>
        <p:spPr>
          <a:xfrm>
            <a:off x="2195640" y="765000"/>
            <a:ext cx="4552920" cy="211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6000" y="336240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067000" y="336240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3637080" y="357336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341440" y="4051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3564000" y="42926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234400" y="407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945440" y="0"/>
            <a:ext cx="509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omic Sans MS"/>
              </a:rPr>
              <a:t>Enzy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437080" y="29242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 +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253800" y="29955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4211640" y="32115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592600" y="383544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 +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295880" y="411804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505680" y="38354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38920" y="134136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 +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209920" y="134136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3780000" y="155268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484360" y="2030400"/>
            <a:ext cx="8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 +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3706920" y="2271600"/>
            <a:ext cx="107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5377320" y="2055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ck_key1"/>
          <p:cNvPicPr/>
          <p:nvPr/>
        </p:nvPicPr>
        <p:blipFill>
          <a:blip r:embed="rId1"/>
          <a:stretch/>
        </p:blipFill>
        <p:spPr>
          <a:xfrm>
            <a:off x="3276720" y="4581360"/>
            <a:ext cx="28969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869560" y="333360"/>
            <a:ext cx="335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"/>
              </a:rPr>
              <a:t>Enzyme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87960" y="1311120"/>
            <a:ext cx="43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fast an enzyme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602280" y="2571840"/>
            <a:ext cx="80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te of Reac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Amount of substrate changed (or amount product form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 given period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2:02:41Z</dcterms:created>
  <dc:creator>LFT User</dc:creator>
  <dc:description/>
  <dc:language>en-US</dc:language>
  <cp:lastModifiedBy>RomaK</cp:lastModifiedBy>
  <dcterms:modified xsi:type="dcterms:W3CDTF">2015-09-04T10:47:10Z</dcterms:modified>
  <cp:revision>11</cp:revision>
  <dc:subject/>
  <dc:title>enzymes models of action</dc:title>
</cp:coreProperties>
</file>